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294-1736-423D-ADB0-863BEC6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D04-CA42-44FD-B662-5E1E5838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AFA-6E23-41BE-AB7E-4C18652B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DA4-3A72-4A4A-A97C-365FCF6E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5DE-890A-4E92-B5C1-B16CD43C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70E-A1B9-43C0-A8B7-8371F228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424-7EBD-491A-ACEB-7039CACC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7B4-D236-45AF-A1A6-05448921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99A-3799-41C8-B345-09863476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75A-401F-484E-8B20-B9E82EFE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037-D742-4BB5-A2BF-18105E5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014-013C-41F8-AC63-6F47B43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CA7C-64D6-4223-9B58-40069F9E1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time/blankclocks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enchantedlearning.com/time/blankclocks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enchantedlearning.com/time/blankclocks/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Problem-Sol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orking Backward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K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4-14C – select or develop an appropriate problem solving plan or strategy, including drawing a picture, looking for a pattern, systematic guessing and checking, acting it out, making a table, working a simpler problem, or working backwards to solve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hen do I us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ry working backwar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you know the end result of a series of step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you want to know what happened in the begin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What might the problem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racy has band practice at 10:15 a.m. It takes her 20 minutes to get from home to practice and 5 minutes to warm up.  What time should she leave home to get to practice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533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Time practice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10:15 a.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33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Time Tracy leaves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5334120"/>
            <a:ext cx="20574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Time warm-up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867280"/>
            <a:ext cx="838440" cy="152640"/>
          </a:xfrm>
          <a:prstGeom prst="leftArrow">
            <a:avLst>
              <a:gd name="adj1" fmla="val 50000"/>
              <a:gd name="adj2" fmla="val 137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5867280"/>
            <a:ext cx="838080" cy="152640"/>
          </a:xfrm>
          <a:prstGeom prst="leftArrow">
            <a:avLst>
              <a:gd name="adj1" fmla="val 50000"/>
              <a:gd name="adj2" fmla="val 137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548640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486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How do I work backward to solve this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05800" y="2615040"/>
            <a:ext cx="1856520" cy="2923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Time practice st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10:15 a.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14600"/>
            <a:ext cx="2286000" cy="3352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3352680"/>
              <a:gd name="textAreaBottom" fmla="*/ 3241080 h 3352680"/>
            </a:gdLst>
            <a:ahLst/>
            <a:rect l="textAreaLeft" t="textAreaTop" r="textAreaRight" b="textAreaBottom"/>
            <a:pathLst>
              <a:path w="21600" h="31677">
                <a:moveTo>
                  <a:pt x="3600" y="0"/>
                </a:moveTo>
                <a:arcTo wR="3600" hR="3600" stAng="16200000" swAng="-5400000"/>
                <a:lnTo>
                  <a:pt x="0" y="28077"/>
                </a:lnTo>
                <a:arcTo wR="3600" hR="3600" stAng="10800000" swAng="-5400000"/>
                <a:lnTo>
                  <a:pt x="18000" y="3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Time Tracy leaves 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10:10 less 20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514600"/>
            <a:ext cx="2133360" cy="32767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276720"/>
              <a:gd name="textAreaBottom" fmla="*/ 3172680 h 3276720"/>
            </a:gdLst>
            <a:ahLst/>
            <a:rect l="textAreaLeft" t="textAreaTop" r="textAreaRight" b="textAreaBottom"/>
            <a:pathLst>
              <a:path w="21600" h="33174">
                <a:moveTo>
                  <a:pt x="3600" y="0"/>
                </a:moveTo>
                <a:arcTo wR="3600" hR="3600" stAng="16200000" swAng="-5400000"/>
                <a:lnTo>
                  <a:pt x="0" y="29574"/>
                </a:lnTo>
                <a:arcTo wR="3600" hR="3600" stAng="10800000" swAng="-5400000"/>
                <a:lnTo>
                  <a:pt x="18000" y="33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Time warm-up st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10:15 less 5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15000" y="38862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8862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1280" y="35812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09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iny" descr="Blank Cl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505320"/>
            <a:ext cx="1736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tiny" descr="Blank Clo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3505320"/>
            <a:ext cx="1736640" cy="1981080"/>
          </a:xfrm>
          <a:prstGeom prst="rect">
            <a:avLst/>
          </a:prstGeom>
          <a:ln w="0">
            <a:noFill/>
          </a:ln>
        </p:spPr>
      </p:pic>
      <p:pic>
        <p:nvPicPr>
          <p:cNvPr id="67" name="tiny" descr="Blank Cloc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505320"/>
            <a:ext cx="173664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724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467120" y="4190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51814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10   15 a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266720" y="4190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29160" y="4052880"/>
            <a:ext cx="542880" cy="277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51814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10   10 a.m.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6" idx="3"/>
            <a:endCxn id="66" idx="3"/>
          </p:cNvCxnSpPr>
          <p:nvPr/>
        </p:nvCxnSpPr>
        <p:spPr>
          <a:xfrm>
            <a:off x="5470560" y="4495320"/>
            <a:ext cx="2160" cy="25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 flipH="1">
            <a:off x="838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61760" y="41144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4114440"/>
            <a:ext cx="53352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181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105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5181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erlin Sans FB"/>
              </a:rPr>
              <a:t>9   50 a.m</a:t>
            </a:r>
            <a:r>
              <a:rPr b="0" lang="en-US" sz="1000" spc="-1" strike="noStrike">
                <a:solidFill>
                  <a:srgbClr val="000000"/>
                </a:solidFill>
                <a:latin typeface="Berlin Sans FB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0200" y="594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What time should she leave home to get to practice on tim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Tracy should leave home at 9:50 a.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hat’s all there is to it. Now it’s your turn to try.  Remember to start at the end and move backwards until you reach the starting point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2:00:11Z</dcterms:created>
  <dc:creator>Lydia Sanchez</dc:creator>
  <dc:description/>
  <dc:language>en-US</dc:language>
  <cp:lastModifiedBy>Lydia Sanchez</cp:lastModifiedBy>
  <dcterms:modified xsi:type="dcterms:W3CDTF">2010-05-07T00:34:07Z</dcterms:modified>
  <cp:revision>7</cp:revision>
  <dc:subject/>
  <dc:title>Problem-Solving</dc:title>
</cp:coreProperties>
</file>